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5D7-DFEB-4C21-8989-0963A7DE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253-B7C8-4177-AD0E-FE810AF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8FA-A458-4C97-8851-5B61555B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BA5-01BF-4EBE-B46D-940827EF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858-97BE-4031-9F1D-A984E3F2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275-E749-4BBC-A26F-7A5630C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7823-C7B7-44C9-82AC-034B6FBA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DA1-19EA-4393-BE95-733230D5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8AA-BDED-4DE2-A7B2-7F927662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F2B-6ECF-4CEE-A46D-F00C206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44D-9DBB-4BF3-AC27-C98188D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296-CC3E-4769-B81C-E94B03A0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9917-02C1-425F-B22A-86362D9E67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n Accord  23.jpg"/>
          <p:cNvPicPr/>
          <p:nvPr/>
        </p:nvPicPr>
        <p:blipFill>
          <a:blip r:embed="rId9">
            <a:lum bright="40000"/>
          </a:blip>
          <a:stretch/>
        </p:blipFill>
        <p:spPr>
          <a:xfrm>
            <a:off x="3440160" y="2060640"/>
            <a:ext cx="12891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6-03T18:34:00Z</dcterms:modified>
  <cp:revision>115</cp:revision>
  <dc:subject/>
  <dc:title>Slide 1</dc:title>
</cp:coreProperties>
</file>