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C08-49AD-461F-9C9E-77926243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76E-3641-42A5-A1E0-E7D31D05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18D-F238-4054-93B1-0B1D1AD1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DD7-D3FC-41AC-8644-DBFE9E81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33C-5A91-4DFD-9B07-21910506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BAC-8CB0-4690-87B7-0E2662AA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F90-0F7F-4352-ADBE-74FDAD05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188-42B8-4830-B94C-E2C5FBD1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28B-C403-4B0F-9FC8-729963B2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E5E-605A-4389-A6DF-B35DAE02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8F5-DB09-469D-844E-1B8BF7E4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1140-8E13-4D7A-AC66-6F2DFC6F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E8CE-3AE1-42BC-BC80-70DC4C0B74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7"/>
          <p:cNvSpPr/>
          <p:nvPr/>
        </p:nvSpPr>
        <p:spPr>
          <a:xfrm>
            <a:off x="0" y="4724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3"/>
          <p:cNvSpPr/>
          <p:nvPr/>
        </p:nvSpPr>
        <p:spPr>
          <a:xfrm>
            <a:off x="0" y="1700280"/>
            <a:ext cx="9906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TWOOD                               UPHALL  STATION                           WHITEVALE  175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3"/>
          <p:cNvSpPr/>
          <p:nvPr/>
        </p:nvSpPr>
        <p:spPr>
          <a:xfrm>
            <a:off x="0" y="4724280"/>
            <a:ext cx="1013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2" descr="Titwood 1.jpg"/>
          <p:cNvPicPr/>
          <p:nvPr/>
        </p:nvPicPr>
        <p:blipFill>
          <a:blip r:embed="rId1"/>
          <a:stretch/>
        </p:blipFill>
        <p:spPr>
          <a:xfrm>
            <a:off x="415800" y="476280"/>
            <a:ext cx="109872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3" descr="Whitevale 175th.jpg"/>
          <p:cNvPicPr/>
          <p:nvPr/>
        </p:nvPicPr>
        <p:blipFill>
          <a:blip r:embed="rId2"/>
          <a:stretch/>
        </p:blipFill>
        <p:spPr>
          <a:xfrm>
            <a:off x="3728880" y="692280"/>
            <a:ext cx="1074960" cy="1036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Uphall Station 1.JPG"/>
          <p:cNvPicPr/>
          <p:nvPr/>
        </p:nvPicPr>
        <p:blipFill>
          <a:blip r:embed="rId3"/>
          <a:stretch/>
        </p:blipFill>
        <p:spPr>
          <a:xfrm>
            <a:off x="2000160" y="620640"/>
            <a:ext cx="10796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5:44:04Z</dcterms:created>
  <dc:creator>JY</dc:creator>
  <dc:description/>
  <dc:language>en-US</dc:language>
  <cp:lastModifiedBy>John</cp:lastModifiedBy>
  <dcterms:modified xsi:type="dcterms:W3CDTF">2012-08-24T14:43:43Z</dcterms:modified>
  <cp:revision>89</cp:revision>
  <dc:subject/>
  <dc:title>Slide 1</dc:title>
</cp:coreProperties>
</file>