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AD4-FDE0-431A-9BFC-262FE605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76D-D11B-445B-9176-C013A56E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8FC-CDB8-46A1-B071-2466F414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C70-B69B-4167-B3C8-FE7F6DED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AF1-64E6-43B0-A07D-17D2A378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9F5-A798-47AF-B5DB-E56C9CF2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100-4BAD-4EDB-A95A-7983F06A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82A-D47F-4350-84AC-2C6CA5FF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2E5-6A9F-4F53-A5C3-89127D08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ED3-8356-4A21-A8A9-DFD7CBB8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783-F99D-4C84-B4CF-FA17A75B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E86-078D-4412-BF03-AF18BA20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B3C8-23B5-4C89-BB3C-B529C5CF02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LFWAY  100TH                   WEST  BARNS  100TH                   LAURIESTON  100TH                        CALLLENDAR  MW                  CLYDESDALE ASSOC       STRANRAER PRIVATE INDO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4" descr="Halfway 10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74960" cy="136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5" descr="West Barns 100th.jpg"/>
          <p:cNvPicPr/>
          <p:nvPr/>
        </p:nvPicPr>
        <p:blipFill>
          <a:blip r:embed="rId2"/>
          <a:stretch/>
        </p:blipFill>
        <p:spPr>
          <a:xfrm>
            <a:off x="2000160" y="333360"/>
            <a:ext cx="1158840" cy="124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6" descr="Laurieston 100th.jp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3657600" y="404640"/>
            <a:ext cx="102060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Callendar MW 5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5097600" y="404640"/>
            <a:ext cx="1317600" cy="12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Clydesdale Assoc.jpg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81960" y="620640"/>
            <a:ext cx="95868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Stranraer Private.jpg"/>
          <p:cNvPicPr/>
          <p:nvPr/>
        </p:nvPicPr>
        <p:blipFill>
          <a:blip r:embed="rId6"/>
          <a:stretch/>
        </p:blipFill>
        <p:spPr>
          <a:xfrm>
            <a:off x="8193240" y="549360"/>
            <a:ext cx="1020600" cy="10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Corunna 6.jpg"/>
          <p:cNvPicPr/>
          <p:nvPr/>
        </p:nvPicPr>
        <p:blipFill>
          <a:blip r:embed="rId7"/>
          <a:stretch/>
        </p:blipFill>
        <p:spPr>
          <a:xfrm>
            <a:off x="415800" y="1989000"/>
            <a:ext cx="1204920" cy="1195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0" y="3213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RUNNA                                BON  ACCORD                        INVERESK  125TH                        KIRKCONNEL  100TH                   THORNHILL  175TH                   BALLANTRAE  125TH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n Accord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1227240" cy="12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Inveresk 125th.jpg"/>
          <p:cNvPicPr/>
          <p:nvPr/>
        </p:nvPicPr>
        <p:blipFill>
          <a:blip r:embed="rId9">
            <a:lum bright="20000"/>
          </a:blip>
          <a:stretch/>
        </p:blipFill>
        <p:spPr>
          <a:xfrm>
            <a:off x="3584520" y="2349360"/>
            <a:ext cx="954000" cy="8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Kirkconnel 100th.jpg"/>
          <p:cNvPicPr/>
          <p:nvPr/>
        </p:nvPicPr>
        <p:blipFill>
          <a:blip r:embed="rId10"/>
          <a:stretch/>
        </p:blipFill>
        <p:spPr>
          <a:xfrm>
            <a:off x="5097600" y="2060640"/>
            <a:ext cx="1150920" cy="1176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Thornhill 175th.jpg"/>
          <p:cNvPicPr/>
          <p:nvPr/>
        </p:nvPicPr>
        <p:blipFill>
          <a:blip r:embed="rId11"/>
          <a:stretch/>
        </p:blipFill>
        <p:spPr>
          <a:xfrm>
            <a:off x="6537240" y="1989000"/>
            <a:ext cx="1352520" cy="124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Ballanntrae 125th.jpg"/>
          <p:cNvPicPr/>
          <p:nvPr/>
        </p:nvPicPr>
        <p:blipFill>
          <a:blip r:embed="rId12"/>
          <a:stretch/>
        </p:blipFill>
        <p:spPr>
          <a:xfrm>
            <a:off x="8121600" y="1989000"/>
            <a:ext cx="1163520" cy="12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Garnock Valley Ex Pres. 1.jpg"/>
          <p:cNvPicPr/>
          <p:nvPr/>
        </p:nvPicPr>
        <p:blipFill>
          <a:blip r:embed="rId13"/>
          <a:stretch/>
        </p:blipFill>
        <p:spPr>
          <a:xfrm>
            <a:off x="272880" y="3645000"/>
            <a:ext cx="1382760" cy="136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1"/>
          <p:cNvSpPr/>
          <p:nvPr/>
        </p:nvSpPr>
        <p:spPr>
          <a:xfrm>
            <a:off x="0" y="494172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ARNOCK  VALLEY  EX.  PRES.       LARGS  HALKSHILL  125TH                   FAIRLIE  125TH                           FALKIRK  175TH                        CAMPHILL  125TH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" descr="Fairlie 125th.jpg"/>
          <p:cNvPicPr/>
          <p:nvPr/>
        </p:nvPicPr>
        <p:blipFill>
          <a:blip r:embed="rId14"/>
          <a:stretch/>
        </p:blipFill>
        <p:spPr>
          <a:xfrm>
            <a:off x="3584520" y="3789360"/>
            <a:ext cx="1185840" cy="1216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Falkirk 175th.jpg"/>
          <p:cNvPicPr/>
          <p:nvPr/>
        </p:nvPicPr>
        <p:blipFill>
          <a:blip r:embed="rId15">
            <a:lum bright="20000"/>
          </a:blip>
          <a:stretch/>
        </p:blipFill>
        <p:spPr>
          <a:xfrm>
            <a:off x="5168880" y="3860640"/>
            <a:ext cx="1133640" cy="1122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Largs Halkshill 125th.jpg"/>
          <p:cNvPicPr/>
          <p:nvPr/>
        </p:nvPicPr>
        <p:blipFill>
          <a:blip r:embed="rId16"/>
          <a:stretch/>
        </p:blipFill>
        <p:spPr>
          <a:xfrm>
            <a:off x="2000160" y="3500280"/>
            <a:ext cx="1119240" cy="144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Camphill 125th.jpg"/>
          <p:cNvPicPr/>
          <p:nvPr/>
        </p:nvPicPr>
        <p:blipFill>
          <a:blip r:embed="rId17">
            <a:lum bright="20000"/>
          </a:blip>
          <a:stretch/>
        </p:blipFill>
        <p:spPr>
          <a:xfrm>
            <a:off x="6681960" y="3716280"/>
            <a:ext cx="1150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10-11T16:16:39Z</dcterms:modified>
  <cp:revision>122</cp:revision>
  <dc:subject/>
  <dc:title>Slide 1</dc:title>
</cp:coreProperties>
</file>