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C6A-8980-4F1A-848F-07C42505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744-79CE-49DD-8DB5-BFF6152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C8C-A13C-4728-8541-EE95234D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A8EE-4F64-474C-A755-BE578432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67A-E6B8-4823-A1EA-5325330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0E4-E8A8-48D6-8964-16DF681E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DFAF-E69C-43DD-ADFD-9E71821D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A388-D487-4DD1-ACB8-67FD9C5C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F3E-0719-4480-B3BA-32189198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80B-EAD6-423D-A4A6-E8724E35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304-E4DC-4028-A82A-29A6A37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AFA-8A07-4F7F-9742-B2B8AB2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B3D4-E03D-4655-9A96-1DF9435BB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jpe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40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ERTH                                         PORTOBELLO                               PRESTWICK  RINK                               PRESTWICK                               SHETLAND                                    STIR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-79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STONEHAVEN                             STONEHAVEN                   STONEHAVEN  MILLENNIUM                     TEVIOTDALE                                         THISTLE                                    TURRI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0520" y="260280"/>
            <a:ext cx="1225440" cy="117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73240" y="26028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28880" y="404640"/>
            <a:ext cx="106056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68880" y="33336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77240" y="260280"/>
            <a:ext cx="1170000" cy="121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08880" y="404640"/>
            <a:ext cx="987480" cy="1024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88880" y="1700280"/>
            <a:ext cx="1481040" cy="1427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728880" y="2133720"/>
            <a:ext cx="1024200" cy="106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097600" y="1989000"/>
            <a:ext cx="122544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121600" y="2060640"/>
            <a:ext cx="1044720" cy="10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31616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2000160" y="3500280"/>
            <a:ext cx="1206720" cy="121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3584520" y="3645000"/>
            <a:ext cx="1116000" cy="108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6824520" y="3645000"/>
            <a:ext cx="1133640" cy="109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8193240" y="3500280"/>
            <a:ext cx="1023840" cy="119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488880" y="5229360"/>
            <a:ext cx="1243080" cy="139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EEDBANK                            WEST  LOTHIAN                              WEST  LOTHIAN                            WEST  LOTHIAN  25TH                      WEST  OF  SCOTLAND         WEST  OF  SCOTLAND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7"/>
          <a:stretch/>
        </p:blipFill>
        <p:spPr>
          <a:xfrm>
            <a:off x="6753240" y="2133720"/>
            <a:ext cx="104292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8"/>
          <a:stretch/>
        </p:blipFill>
        <p:spPr>
          <a:xfrm>
            <a:off x="5240160" y="3645000"/>
            <a:ext cx="1038240" cy="103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597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HITEINCH                             SCOTTISH  INDOOR  B.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2144880" y="213372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2073240" y="537372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21:59Z</dcterms:created>
  <dc:creator>JOHN YOUNG</dc:creator>
  <dc:description/>
  <dc:language>en-US</dc:language>
  <cp:lastModifiedBy>JY</cp:lastModifiedBy>
  <dcterms:modified xsi:type="dcterms:W3CDTF">2007-02-05T19:37:21Z</dcterms:modified>
  <cp:revision>11</cp:revision>
  <dc:subject/>
  <dc:title>PowerPoint Presentation</dc:title>
</cp:coreProperties>
</file>