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3DE23-4590-470F-A1B2-AFF47CAA8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D1CCF-20B4-40BE-8DBD-5A3074041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063A2-CE0A-4F7F-9CC1-C5B95DCF2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20129-2C7B-467C-9900-FE8BE6A01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02FEB-E618-49D4-A7C5-59849052B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C63FE-24FC-443C-AA78-118684C21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1BA93-17F5-4025-86F6-A17DAA9A1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79EE2-80BC-43B5-A340-82305CF16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4C72B-8771-4960-8F07-291514B60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9AB27-6F1F-431D-840E-7F69AB633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4E9C3-CB93-47CE-B8AA-9192EE203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652A5-2AFF-46FA-8F4D-BD74EF351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C92AD-FF0D-450A-BBF0-0F95654B7A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jpeg"/><Relationship Id="rId21" Type="http://schemas.openxmlformats.org/officeDocument/2006/relationships/image" Target="../media/image21.jpeg"/><Relationship Id="rId22" Type="http://schemas.openxmlformats.org/officeDocument/2006/relationships/image" Target="../media/image22.png"/><Relationship Id="rId2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13716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GLASGOW                                        GLASGOW                          GLASGOW  NORTHERN                      GLANROTHES                                     HEADWELL                                       INVERCLYD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343400" y="-93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OOR 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31240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INVERCLYDE                                     INVERNESS                                        IRVINE                                         KIRKCALDY                                        KIRN                                             LANARKSH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48006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LANARKSHIRE  25TH                            LOCHWINNOCH                                   LORNE                                        McLARRAN                                       MIDLOTHIAN                            NEWTON  STEWAR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6320" y="6469200"/>
            <a:ext cx="9829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NEWTON  STEWART                                   NITHSDALE                                        PAISLEY                                          PAISLEY                                            PAISLEY                                      PAISLEY  25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15800" y="189000"/>
            <a:ext cx="1243080" cy="11937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2073240" y="333360"/>
            <a:ext cx="987480" cy="10699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3440160" y="260280"/>
            <a:ext cx="1189080" cy="11336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5024520" y="404640"/>
            <a:ext cx="950760" cy="9874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5"/>
          <a:stretch/>
        </p:blipFill>
        <p:spPr>
          <a:xfrm>
            <a:off x="6392880" y="260280"/>
            <a:ext cx="1243080" cy="11797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6"/>
          <a:stretch/>
        </p:blipFill>
        <p:spPr>
          <a:xfrm>
            <a:off x="8048520" y="333360"/>
            <a:ext cx="1133640" cy="10335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7"/>
          <a:stretch/>
        </p:blipFill>
        <p:spPr>
          <a:xfrm>
            <a:off x="560520" y="2205000"/>
            <a:ext cx="933480" cy="9000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8"/>
          <a:stretch/>
        </p:blipFill>
        <p:spPr>
          <a:xfrm>
            <a:off x="1857240" y="1916280"/>
            <a:ext cx="1390680" cy="12063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9"/>
          <a:stretch/>
        </p:blipFill>
        <p:spPr>
          <a:xfrm>
            <a:off x="3440160" y="2060640"/>
            <a:ext cx="1216080" cy="11286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10"/>
          <a:stretch/>
        </p:blipFill>
        <p:spPr>
          <a:xfrm>
            <a:off x="5097600" y="2060640"/>
            <a:ext cx="914400" cy="10476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11"/>
          <a:stretch/>
        </p:blipFill>
        <p:spPr>
          <a:xfrm>
            <a:off x="6392880" y="2060640"/>
            <a:ext cx="1133280" cy="10699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12"/>
          <a:stretch/>
        </p:blipFill>
        <p:spPr>
          <a:xfrm>
            <a:off x="7977240" y="1916280"/>
            <a:ext cx="1243080" cy="12063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13"/>
          <a:stretch/>
        </p:blipFill>
        <p:spPr>
          <a:xfrm>
            <a:off x="415800" y="3500280"/>
            <a:ext cx="1170000" cy="12798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14"/>
          <a:stretch/>
        </p:blipFill>
        <p:spPr>
          <a:xfrm>
            <a:off x="2073240" y="3716280"/>
            <a:ext cx="1116000" cy="10699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15"/>
          <a:stretch/>
        </p:blipFill>
        <p:spPr>
          <a:xfrm>
            <a:off x="8048520" y="3789360"/>
            <a:ext cx="1096920" cy="10476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16"/>
          <a:stretch/>
        </p:blipFill>
        <p:spPr>
          <a:xfrm>
            <a:off x="415800" y="5445000"/>
            <a:ext cx="1060560" cy="10335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17"/>
          <a:stretch/>
        </p:blipFill>
        <p:spPr>
          <a:xfrm>
            <a:off x="1928880" y="5229360"/>
            <a:ext cx="1298520" cy="12157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18"/>
          <a:stretch/>
        </p:blipFill>
        <p:spPr>
          <a:xfrm>
            <a:off x="3368520" y="5013360"/>
            <a:ext cx="1390680" cy="14637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19"/>
          <a:stretch/>
        </p:blipFill>
        <p:spPr>
          <a:xfrm>
            <a:off x="4881600" y="5157720"/>
            <a:ext cx="1371600" cy="13255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0"/>
          <a:stretch/>
        </p:blipFill>
        <p:spPr>
          <a:xfrm>
            <a:off x="6608880" y="3645000"/>
            <a:ext cx="950760" cy="11793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1"/>
          <a:stretch/>
        </p:blipFill>
        <p:spPr>
          <a:xfrm>
            <a:off x="6537240" y="5373720"/>
            <a:ext cx="1133640" cy="11430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2"/>
          <a:stretch/>
        </p:blipFill>
        <p:spPr>
          <a:xfrm>
            <a:off x="7977240" y="5229360"/>
            <a:ext cx="1279440" cy="123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18T16:14:46Z</dcterms:created>
  <dc:creator>John Young</dc:creator>
  <dc:description/>
  <dc:language>en-US</dc:language>
  <cp:lastModifiedBy>JY</cp:lastModifiedBy>
  <cp:lastPrinted>2000-10-23T03:20:43Z</cp:lastPrinted>
  <dcterms:modified xsi:type="dcterms:W3CDTF">2007-02-05T19:13:59Z</dcterms:modified>
  <cp:revision>18</cp:revision>
  <dc:subject/>
  <dc:title>No Slide Title</dc:title>
</cp:coreProperties>
</file>