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C68-B7EE-4485-86C4-18D3DC04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891-004A-4F09-8CB1-0909E1A5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33B-3E7F-4023-A033-D4CEBBF6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6EA-2024-4708-A7AA-5DE1048E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2E1-7EC8-41DD-A5B1-E81779D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2FE-DE05-49E4-B6AD-D8BCED05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71C-32B9-41D6-A7C0-1E26538A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F2A-055E-4319-B7A9-CB8CDAF2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0820-F5A3-4834-BE40-AA096049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24F-CD04-482B-BE3C-4AED6F0E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338-0C43-4A00-9FEF-C4B5E55E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EF0-B4CD-47F0-9D84-ECDBDD6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6EEB-937A-4F1F-9974-B84BFD75E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57600" y="-7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302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COTTISH  INDOOR  ASSOC.        SCOTTISH  INDOOR  ASSOC.                      ABERDEEN                                    ABERDEEN                                      ABERDEEN  25TH                                  ALLANDE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6404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UCHINLECK                                            AYR                                           BAINFIELD                                     BALBARDIE                                         BLANTYRE                                    BLANTYRE  25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771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ON  ACCORD                                    BUCHAN                                   CASTLEMILK                                      CLYDEBANK                                       COATBRIDGE                                           COW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73240" y="1916280"/>
            <a:ext cx="1042920" cy="1023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68520" y="1628640"/>
            <a:ext cx="1243080" cy="128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243080" cy="1106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928880" y="260280"/>
            <a:ext cx="1206360" cy="113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513240" y="260280"/>
            <a:ext cx="1060200" cy="1069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952880" y="260280"/>
            <a:ext cx="107964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608880" y="115920"/>
            <a:ext cx="1060200" cy="1216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8193240" y="260280"/>
            <a:ext cx="95076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376880" y="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024520" y="1700280"/>
            <a:ext cx="1023840" cy="1193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6608880" y="1484280"/>
            <a:ext cx="1206360" cy="139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8121600" y="1844640"/>
            <a:ext cx="1060560" cy="110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31800" y="3645000"/>
            <a:ext cx="933480" cy="996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2073240" y="3429000"/>
            <a:ext cx="1225440" cy="12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3440160" y="3645000"/>
            <a:ext cx="1407960" cy="1009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097600" y="3645000"/>
            <a:ext cx="1096920" cy="1033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6608880" y="3284640"/>
            <a:ext cx="1279440" cy="1352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193240" y="3500280"/>
            <a:ext cx="122544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488880" y="5300640"/>
            <a:ext cx="1262160" cy="1193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2073240" y="544500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5097600" y="5445000"/>
            <a:ext cx="109692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1"/>
          <a:stretch/>
        </p:blipFill>
        <p:spPr>
          <a:xfrm>
            <a:off x="6681960" y="5445000"/>
            <a:ext cx="116964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2"/>
          <a:stretch/>
        </p:blipFill>
        <p:spPr>
          <a:xfrm>
            <a:off x="8193240" y="5084640"/>
            <a:ext cx="1315800" cy="141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3"/>
          <a:stretch/>
        </p:blipFill>
        <p:spPr>
          <a:xfrm>
            <a:off x="488880" y="1916280"/>
            <a:ext cx="1082880" cy="113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9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ALLOA                                              ARBROATH                          ARBROATH  25TH                                ARDROSSAN                                          ARDROSSAN                                AUCHINL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0:23:11Z</dcterms:created>
  <dc:creator>John Young</dc:creator>
  <dc:description/>
  <dc:language>en-US</dc:language>
  <cp:lastModifiedBy>JY</cp:lastModifiedBy>
  <cp:lastPrinted>2000-10-18T00:23:58Z</cp:lastPrinted>
  <dcterms:modified xsi:type="dcterms:W3CDTF">2007-05-15T15:24:31Z</dcterms:modified>
  <cp:revision>10</cp:revision>
  <dc:subject/>
  <dc:title>No Slide Title</dc:title>
</cp:coreProperties>
</file>