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85F-7433-4FBB-886B-4395F111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54D-BFDE-4474-9C62-59DC419E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14E-2239-480D-880E-C423848F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C40-A1C4-4D5E-B34C-531082F6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359-D8DD-461F-9DB8-FD792769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169-789D-4C63-B259-734DC91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564-A2AE-4A7E-A7E7-ED57052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CD8-3AC5-4DA2-8CF5-2AB134C1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F139-C58F-4FC4-A349-20D8E633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92A-5F33-4042-B386-235D99F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5E2-4E46-4575-A017-69734629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6CF-AE4D-4627-A45C-394617EA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FE5E-7834-4FD1-B824-3D3F316F0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8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UMBERNAULD                           CUMBERNAULD                              DUMBARTON                                          DUNDEE                                          DUNDEE                                            DY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997360"/>
            <a:ext cx="1006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AST  FIFE                                        EAST  FIFE                                   EAST  FIFE  25TH                            EAST  KILBRIDE                                 EAST  LOTHIAN                              EDINBURG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676800" y="2811600"/>
            <a:ext cx="759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5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ELGIN                                            ELGIN                                                   FALKIRK                                            FALKIRK                                             FALKIRK                                          FIN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324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FINTRY                                FRASERBURGH                                       GALLEON                                               GALLEON                                        GARIOCH                                     GLASG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8880" y="115920"/>
            <a:ext cx="1315800" cy="1206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1116000" cy="1252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68880" y="0"/>
            <a:ext cx="1006560" cy="1325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681960" y="115920"/>
            <a:ext cx="969840" cy="1243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21600" y="115920"/>
            <a:ext cx="104292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88880" y="1628640"/>
            <a:ext cx="1243080" cy="132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3584520" y="1700280"/>
            <a:ext cx="1116000" cy="126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097600" y="1916280"/>
            <a:ext cx="109692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6681960" y="1916280"/>
            <a:ext cx="113328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8048520" y="1844640"/>
            <a:ext cx="12067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488880" y="3645000"/>
            <a:ext cx="1079640" cy="106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928880" y="3716280"/>
            <a:ext cx="1023840" cy="9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3584520" y="3573360"/>
            <a:ext cx="987480" cy="1047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024520" y="3357720"/>
            <a:ext cx="1243080" cy="1303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6608880" y="3357720"/>
            <a:ext cx="1189080" cy="127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8121600" y="357336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560520" y="5373720"/>
            <a:ext cx="1023840" cy="996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1928880" y="5300640"/>
            <a:ext cx="1023840" cy="1033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3513240" y="5084640"/>
            <a:ext cx="111600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6681960" y="5300640"/>
            <a:ext cx="1060200" cy="102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8121600" y="5157720"/>
            <a:ext cx="1042920" cy="1179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2000160" y="1628640"/>
            <a:ext cx="1243080" cy="133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76880" y="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560520" y="260280"/>
            <a:ext cx="1060200" cy="10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4"/>
          <a:stretch/>
        </p:blipFill>
        <p:spPr>
          <a:xfrm>
            <a:off x="5240160" y="5084640"/>
            <a:ext cx="98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5:41:59Z</dcterms:created>
  <dc:creator>John Young</dc:creator>
  <dc:description/>
  <dc:language>en-US</dc:language>
  <cp:lastModifiedBy>JY</cp:lastModifiedBy>
  <dcterms:modified xsi:type="dcterms:W3CDTF">2008-01-05T12:10:40Z</dcterms:modified>
  <cp:revision>17</cp:revision>
  <dc:subject/>
  <dc:title>No Slide Title</dc:title>
</cp:coreProperties>
</file>